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1643-7FBF-4314-894D-47C66FE7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F6D6-518F-4F67-B95D-524B8CFB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3961-2104-439B-BB3B-AD55A9B6E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1982-B489-4F66-BBDD-89F4404B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8525-709B-4ADA-8BC1-B6583C015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E4FD-36F8-49BE-B463-6937A49B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1313-BCE9-40A6-B713-705DC3C7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9D83-E3DA-40EC-89B7-8A421D5C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ADCE-C5AE-4F0D-9228-D6A62B8E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E6CA-A9C4-4520-8766-BA26A05B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4C36-A14C-49F3-BEE1-4DC99B06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B4C3-C58F-4131-AA3C-9254790E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4CD5-5705-47C2-ADD6-F770125F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B0DA-9294-467C-A43D-710B6EF0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C3FA-CDA3-4CB3-A882-FD3DA8E6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455E-0C2C-4D52-B225-A00C2B7E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0D02-3A84-4F95-91A1-EB94A287F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C449-7C3F-434E-96F5-AD368777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55D6-DB92-4539-A3CB-67CA1CEC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327F-98FF-409A-950F-85256FD2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A767-A2F9-447A-87B2-8472DD33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1096-A4D2-4DF1-B823-FAF9C05C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FDCD-7495-4546-BCFB-713CEAB7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492D-E3F3-4067-BC68-1BCEBD7A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03D0-DF7F-4535-8019-F4F98EDC42C6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0F5C-0577-46E6-8442-8216D3D1532F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s-ES" sz="3200" spc="-1" strike="noStrike">
                <a:solidFill>
                  <a:srgbClr val="999900"/>
                </a:solidFill>
                <a:latin typeface="Garamond"/>
              </a:rPr>
              <a:t>MELLORA DA COMPETENCIA LINGÜÍSTICA DO PROFESORADO.</a:t>
            </a:r>
            <a:br>
              <a:rPr sz="3200"/>
            </a:br>
            <a:r>
              <a:rPr b="1" lang="es-ES" sz="3200" spc="-1" strike="noStrike">
                <a:solidFill>
                  <a:srgbClr val="999900"/>
                </a:solidFill>
                <a:latin typeface="Garamond"/>
              </a:rPr>
              <a:t>EGAP 4 de maio de 2024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76360" y="3284640"/>
            <a:ext cx="64008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O Agra no mundo e o mundo no Agra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Emilio A. García Fernánde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IES AGRA DO ORZÁN (A CORUÑ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Hai poucos anos había unha importante zona comercial: Rúa Barcelon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Hoxe unha das zonas máis multiculturales e multiétnicas da cida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500" spc="-1" strike="noStrike">
                <a:solidFill>
                  <a:srgbClr val="000000"/>
                </a:solidFill>
                <a:latin typeface="Verdana"/>
              </a:rPr>
              <a:t>https://www.google.es/maps/@43.362684,-8.4265449,664m/data=!3m1!1e3?entry=tt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3A0B-9908-4BE7-8902-7A83DAA9F664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9900"/>
                </a:solidFill>
                <a:latin typeface="Garamond"/>
              </a:rPr>
              <a:t>O INSTITUT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Estamos na mediana idade: acabamos de cumprir 50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Creado no curso 1969-70 como unha Sección Delegada do Instituto Masculino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Entidade propia a partir do curso 1970-71 como Instituto Mixto de Bachillera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CA37-D7A2-44C3-AE6F-3D2DCCEA9DDC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ctualmente, IES no que se impart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acharelato de Ciencias e Tecnoloxía e de Humanidades e Ciencias Sociais. STEM BA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.S. de Actividades Físicas e Deportivas: Acondicionamiento Físico e Animación socio-deportiv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ccións Bilingües: Proxecto 1º (Francés), Música e EF (2º a 4º en Inglés). Economía 1º BAC (Inglé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0F09-02DC-4802-AC4E-F26A2DB76455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8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s-ES" sz="5800" spc="-1" strike="noStrike">
                <a:solidFill>
                  <a:srgbClr val="999900"/>
                </a:solidFill>
                <a:latin typeface="Garamond"/>
              </a:rPr>
              <a:t>O EQUIPO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ENTRENADORES/AS: 55 , case todos definitiv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XOGADORES/AS: 469, todos e todas titulares. Non todos xogan na mesma categorí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Novas fichaxes: 4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ASISTENTES: 7 (2 en conserxería, 2 en administración e 3 en limpez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6E2B-299B-40DA-8248-61D89EDDB5D4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FICHAXES ESTRANXEIRAS: 7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Tamén temos xogadores/as que viñeron como fichaxes  estranxeiras e logo se nacionalizaron: 3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No equipo hai 26 nacionalidades diferen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254F-9EF2-4850-84FA-2231999F769B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Venezuela: 2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Perú: 2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Senegal: 1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Colombia: 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uba: 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Arxentina: 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República Dominicana: 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Uruguai: 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8B45-1A47-44D3-AC59-BEF3F0E6E825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Guinea-Bissau: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China: 3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Italia: 2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Romanía: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sta do Marfil: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arrocos: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ortugal: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craína: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Suiza, Italia, Bolivia, Polonia, Nicaragua, R. Unido, Vietnam, EEUU, Marrocos, Paquistán :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17B4-85D3-4E9F-8E47-F990203899FB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Isto son só númer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Non están todos os que son e, se cadra, non son todos os que está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Os papeis non sempre se corresponden coa realidade: hai situacións complex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AC76-FF00-451C-95EF-BF29A37E0C36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999900"/>
                </a:solidFill>
                <a:latin typeface="Garamond"/>
              </a:rPr>
              <a:t>ALGÚNS PRINCIPIOS</a:t>
            </a:r>
            <a:br>
              <a:rPr sz="5400"/>
            </a:br>
            <a:r>
              <a:rPr b="1" lang="es-ES" sz="5400" spc="-1" strike="noStrike">
                <a:solidFill>
                  <a:srgbClr val="999900"/>
                </a:solidFill>
                <a:latin typeface="Garamond"/>
              </a:rPr>
              <a:t>DE PARTIDA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5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E831-E0A8-4C84-8E51-E7DB720D51DD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9900"/>
                </a:solidFill>
                <a:latin typeface="Garamond"/>
              </a:rPr>
              <a:t>O QUE QUERO COMPARTI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gl-ES" sz="4000" spc="-1" strike="noStrike">
                <a:solidFill>
                  <a:srgbClr val="000000"/>
                </a:solidFill>
                <a:latin typeface="Verdana"/>
              </a:rPr>
              <a:t>Contextualización: a nosa realida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gl-ES" sz="4000" spc="-1" strike="noStrike">
                <a:solidFill>
                  <a:srgbClr val="000000"/>
                </a:solidFill>
                <a:latin typeface="Verdana"/>
              </a:rPr>
              <a:t>O equip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gl-ES" sz="4000" spc="-1" strike="noStrike">
                <a:solidFill>
                  <a:srgbClr val="000000"/>
                </a:solidFill>
                <a:latin typeface="Verdana"/>
              </a:rPr>
              <a:t>Algúns principios de partid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gl-ES" sz="4000" spc="-1" strike="noStrike">
                <a:solidFill>
                  <a:srgbClr val="000000"/>
                </a:solidFill>
                <a:latin typeface="Verdana"/>
              </a:rPr>
              <a:t>Algunhas cousas que facem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gl-ES" sz="4000" spc="-1" strike="noStrike">
                <a:solidFill>
                  <a:srgbClr val="000000"/>
                </a:solidFill>
                <a:latin typeface="Verdana"/>
              </a:rPr>
              <a:t>Aprender de vos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Verdana"/>
              </a:rPr>
              <a:t>LEXISLATIVOS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5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C163-5C6B-495E-93EA-351417E90AE2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NSTITUCIÓN (artigo 27.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la educación tendrá por objeto el pleno desarrollo de la personalidad humana en el respeto a los principios democráticos de convivencia y a los derechos y libertades fundamentales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5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7C30-BD92-4B85-AAA9-5B826ED778FB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LEY ORGÁNICA 4/2000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s-ES" sz="3200" spc="-1" strike="noStrike">
                <a:solidFill>
                  <a:srgbClr val="000000"/>
                </a:solidFill>
                <a:latin typeface="Verdana"/>
              </a:rPr>
              <a:t>Sobre los derechos y libertades de los extranjeros en España y su integración social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Artigo 9 dedicado á educació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5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1919-5605-41F0-8011-93098FDFEB75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GARANT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600" spc="-1" strike="noStrike">
                <a:solidFill>
                  <a:srgbClr val="000000"/>
                </a:solidFill>
                <a:latin typeface="Arial"/>
                <a:ea typeface="Arial"/>
              </a:rPr>
              <a:t>O dereito e o deber á educación nas mesmas condicións en: acceso a unha educación básica, gratuita e obrigatoria; obtención de titulación e acceso ao sistema público de becas e axud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600" spc="-1" strike="noStrike">
                <a:solidFill>
                  <a:srgbClr val="000000"/>
                </a:solidFill>
                <a:latin typeface="Arial"/>
                <a:ea typeface="Arial"/>
              </a:rPr>
              <a:t>Os poderes públicos deben promover un ensino para a súa mellor integración social, con recoñecemento e respecto da súa identidade cultur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5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FFB0-F42A-440A-BF14-D3B068D418C1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A LOM-LOE como referent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Calidad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Colaboración da comunidade educativ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Compromiso cos obxectivos educativos da 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Educación en valor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Atención á diversidade do alumna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Competencias básic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5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23A0-9A1A-4501-AB97-9B2224E86658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Decreto 229/2011 que regula a atención á Diversidade e a Orde do 8 de setembro de 2021 que o desenvolv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rtículo 10: Incorporación tardí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rtículo 22: PD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rtículo 56: Agrupamentos flexibl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rtículo 67-68-69: Alumnado procedente do estranxeir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rticulo 66: Familias itinerant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5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75B7-9A0B-4C03-94DD-7CB15D0982B6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MEDIDAS ORDINARI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Reforzo educativ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Apoi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Dentro da aul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Fóra da aul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Flexibiliza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A.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Agrupamentos flexibles (Secundari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Diversificación Curricular (Secundari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5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5B44-B202-4ABD-840A-E6F61228841A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MEDIDAS ORGANIZATIV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GRUPOS DE ADQUISICIÓN DE LINGUAS: 11 alumnos e alum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GRUPOS DE ADQUISICIÓN DE COMPETENCIA CURRICULA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Verdana"/>
              </a:rPr>
              <a:t>PEDAGÓXICOS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Arial"/>
                <a:ea typeface="Arial"/>
              </a:rPr>
              <a:t>REFLEXIÓN SOBRE A PRÁCTIC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gl-ES" sz="2800" spc="-1" strike="noStrike">
                <a:solidFill>
                  <a:srgbClr val="000000"/>
                </a:solidFill>
                <a:latin typeface="Arial"/>
                <a:ea typeface="Arial"/>
              </a:rPr>
              <a:t>¿Qué cousas facemos e dan bos resultad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Arial"/>
                <a:ea typeface="Arial"/>
              </a:rPr>
              <a:t>¿Qué seguimos facendo aínda que os resultados non son b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Arial"/>
                <a:ea typeface="Arial"/>
              </a:rPr>
              <a:t>¿Qué poderiamos facer e non facem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D8FA-53EA-416F-B52D-28CAABC7EB88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3600" spc="-1" strike="noStrike">
                <a:solidFill>
                  <a:srgbClr val="000000"/>
                </a:solidFill>
                <a:latin typeface="Verdana"/>
              </a:rPr>
              <a:t>Só vexo dúas razóns lexítimas para adoptar novos métodos educativo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3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i="1" lang="gl-ES" sz="3600" spc="-1" strike="noStrike">
                <a:solidFill>
                  <a:srgbClr val="000000"/>
                </a:solidFill>
                <a:latin typeface="Verdana"/>
              </a:rPr>
              <a:t>primeira</a:t>
            </a:r>
            <a:r>
              <a:rPr b="0" i="1" lang="gl-ES" sz="3600" spc="-1" strike="noStrike">
                <a:solidFill>
                  <a:srgbClr val="000000"/>
                </a:solidFill>
                <a:latin typeface="Verdana"/>
              </a:rPr>
              <a:t> é que as prácticas actuais non funcionen debidament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3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i="1" lang="gl-ES" sz="3600" spc="-1" strike="noStrike">
                <a:solidFill>
                  <a:srgbClr val="000000"/>
                </a:solidFill>
                <a:latin typeface="Verdana"/>
              </a:rPr>
              <a:t>segunda</a:t>
            </a:r>
            <a:r>
              <a:rPr b="0" i="1" lang="gl-ES" sz="3600" spc="-1" strike="noStrike">
                <a:solidFill>
                  <a:srgbClr val="000000"/>
                </a:solidFill>
                <a:latin typeface="Verdana"/>
              </a:rPr>
              <a:t> razón é que as condicións do mundo cambiaron dunha forma substancial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5622-7567-4069-A8DD-042304092016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"/>
                <a:ea typeface="Arial"/>
              </a:rPr>
              <a:t>DESTERRAR ESTEREOTIP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  <a:ea typeface="Arial"/>
              </a:rPr>
              <a:t>Están de pa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  <a:ea typeface="Arial"/>
              </a:rPr>
              <a:t>Vannos invadi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  <a:ea typeface="Arial"/>
              </a:rPr>
              <a:t>Son conflitivos/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  <a:ea typeface="Arial"/>
              </a:rPr>
              <a:t>Son moi hábiles e se adaptan rápi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  <a:ea typeface="Arial"/>
              </a:rPr>
              <a:t>Son representantes do seu paí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  <a:ea typeface="Arial"/>
              </a:rPr>
              <a:t>Os/as orientais e do Este aprenden rápi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  <a:ea typeface="Arial"/>
              </a:rPr>
              <a:t>Os que veñen de Sudamérica son lentos/as pero moi felic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  <a:ea typeface="Arial"/>
              </a:rPr>
              <a:t>Os/as romaneses/as non teñen intere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  <a:ea typeface="Arial"/>
              </a:rPr>
              <a:t>Os xitanos só veñen porque cobra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4" name="Marcador de número de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AAF5-83ED-43BB-9FF2-8BC4C11BF91C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Marcador de contenido 4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6056280" cy="41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5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3ECD-14DD-40DB-9D77-852010B4151B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9900"/>
                </a:solidFill>
                <a:latin typeface="Garamond"/>
              </a:rPr>
              <a:t>TEMOS CLARO QUE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Non son turistas. </a:t>
            </a:r>
            <a:r>
              <a:rPr b="0" lang="gl-ES" sz="2400" spc="-1" strike="noStrike">
                <a:solidFill>
                  <a:srgbClr val="000000"/>
                </a:solidFill>
                <a:latin typeface="Arial"/>
                <a:ea typeface="Arial"/>
              </a:rPr>
              <a:t>O proceso de adaptación é clav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Escolarizar non é almacena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Integrar non é asimilar. Proceso bidireccional: aceptación mutu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As necesidade, do alumnado que vén de fóra son diversas: lingüísticas, culturais, emocionais, sociais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O urxente non debe facer esquecer o importa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Dificultade da situación para o rapaz ou a rapaza, sobre todo a nivel emocion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Situación do alumno ou alumna en concre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Importancia dos aspectos afectivos e emocionai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Flexibilidade no período de adapta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Non pechar totalmente as decisió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7D6A-4A9E-4CCB-9098-58EBD81CF7C0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Fuxir de situacións agobiantes para eles/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Sobre todo no inicio, o importante é a comunicación: buscar fórmulas, non só lingua oral e escri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Que falen castelán só significa que nos entenderemos máis facilm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3BBB-6DB9-44A1-AF22-D7CDC59DC1F6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O alumnado doutras culturas é unha mostra máis da nosa diversida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Non son un </a:t>
            </a:r>
            <a:r>
              <a:rPr b="1" lang="gl-ES" sz="2800" spc="-1" strike="noStrike">
                <a:solidFill>
                  <a:srgbClr val="000000"/>
                </a:solidFill>
                <a:latin typeface="Verdana"/>
              </a:rPr>
              <a:t>problema</a:t>
            </a: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, son un re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Óptica no que saben e no que son quen de fac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BDA9-76E5-4CDF-8B40-5C769D9E7BB1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5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0D46-4D7E-4391-A5B6-800AA1D564A2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Aproveitar as potencialidades do alumnado que xa está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A atención á diversidade é cuestión de todo o profesorado e de todo o centr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O noso alumnado é un gran recurso: traballar co grup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5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C46E-0D7B-4CAA-923F-DDA9D7BE0AB3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Son necesarios cambios organizativos e metodolóxicos a nivel centro: documentos de xestión, Plans de Acoll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Necesitamos axuda para axudarlles: pontes ao contorn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Temos porcentaxes importantes de fracaso académico pero tamén de </a:t>
            </a:r>
            <a:r>
              <a:rPr b="1" lang="gl-ES" sz="2800" spc="-1" strike="noStrike">
                <a:solidFill>
                  <a:srgbClr val="000000"/>
                </a:solidFill>
                <a:latin typeface="Verdana"/>
              </a:rPr>
              <a:t>éxito escolar</a:t>
            </a: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5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1F47-A3B0-4B0D-92E1-1CC6A4727530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Bo humor e pacienc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Imaxinación e creativida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Relación con outros docentes e centros: redes de colabora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iferencia ent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racaso escola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racaso académic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145D-F5EC-4263-B667-4187144E3A52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l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gl-ES" sz="3600" spc="-1" strike="noStrike">
                <a:solidFill>
                  <a:srgbClr val="000000"/>
                </a:solidFill>
                <a:latin typeface="Verdana"/>
              </a:rPr>
              <a:t>Nestes inicios do terceiro milenio estamos vivindo unha época de grandes cambios, cambios de tal magnitude que parecen capaces de eclipsar calquera outro cambio vivido en épocas anteriore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3600" spc="-1" strike="noStrike">
                <a:solidFill>
                  <a:srgbClr val="000000"/>
                </a:solidFill>
                <a:latin typeface="Verdana"/>
              </a:rPr>
              <a:t>HOWARD GARDNER, </a:t>
            </a:r>
            <a:r>
              <a:rPr b="1" lang="es-E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3600" spc="-1" strike="noStrike">
                <a:solidFill>
                  <a:srgbClr val="000000"/>
                </a:solidFill>
                <a:latin typeface="Verdana"/>
              </a:rPr>
              <a:t>“Las cinco mentes del futuro”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6C1D-CC4A-4162-B053-6E5AFCED5720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n ocasións pode haber necesidades específic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"/>
                <a:ea typeface="Arial"/>
              </a:rPr>
              <a:t>Diferentes niveis académicos: retraso curricular en relación coa idad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"/>
                <a:ea typeface="Arial"/>
              </a:rPr>
              <a:t>Escolarización anterior irregula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"/>
                <a:ea typeface="Arial"/>
              </a:rPr>
              <a:t>Diversos referentes culturais: o escolar e o da casa, que soen responder a concepción distintas de vivir e de actua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6F95-5D06-423F-A299-92FB51298653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"/>
                <a:ea typeface="Arial"/>
              </a:rPr>
              <a:t>Dificultades de adaptación á cidade e ao barrio que condicionan a socialización: en ocasións non hai amigos ou son da súa nacionalidad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Arial"/>
                <a:ea typeface="Arial"/>
              </a:rPr>
              <a:t>Utilización na súa vida cotiá e en todo o proceso de ensino-aprendizaxe dunha lingua diferente á súa lingua matern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45ED-C27F-4E36-8025-FE7DC8FE1285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800" spc="-1" strike="noStrike">
                <a:solidFill>
                  <a:srgbClr val="999900"/>
                </a:solidFill>
                <a:latin typeface="Garamond"/>
              </a:rPr>
              <a:t>ALGUNHAS COUSAS QUE FACEM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esterrar a palabr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STRANXEIR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ET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on ALUMNOS e ALUMNAS e as súas FAMILIA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973F-E0D8-4B29-B2D4-7CC30AC81580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REAR AMBIENTE ACOLLED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Carte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Mapas nas aul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Bandeir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Traballos do Proxecto Interdisciplinar de 1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F3DF-57ED-4BA8-994A-31D38BF7617D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Coidar </a:t>
            </a:r>
            <a:r>
              <a:rPr b="1" lang="gl-ES" sz="2800" spc="-1" strike="noStrike">
                <a:solidFill>
                  <a:srgbClr val="000000"/>
                </a:solidFill>
                <a:latin typeface="Verdana"/>
              </a:rPr>
              <a:t>EXTREMADAMENTE</a:t>
            </a: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 os primeiros contactos co centr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Recep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Presentació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Visita ás instalació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Información: sistema educativo, o centro, o grupo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Profesorado que imparte no seu grupo. Especialmente titor/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compañía, atención e </a:t>
            </a:r>
            <a:r>
              <a:rPr b="1" lang="gl-ES" sz="2400" spc="-1" strike="noStrike">
                <a:solidFill>
                  <a:srgbClr val="000000"/>
                </a:solidFill>
                <a:latin typeface="Verdana"/>
              </a:rPr>
              <a:t>AFECTIVIDADE</a:t>
            </a: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34A7-F9B8-416F-AA07-A0643C1F2F14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Atención á famili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Coñecer ao máximo a súa situ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Portas abert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Entrevistas para tomar decisió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Facilida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Información sobre situación familia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Posibles necesida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Recomendacións se son necesari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Servizos que lles poden ser úti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 baseline="-25000">
                <a:solidFill>
                  <a:srgbClr val="000000"/>
                </a:solidFill>
                <a:latin typeface="Verdana"/>
              </a:rPr>
              <a:t>*</a:t>
            </a: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 ESPECIAL ATENCIÓN ÁS NA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681F-F69E-45C0-A5C5-691A26E6B53B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TRABALLO CO GRUPO NO QUE SE VAI INTEGRA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gl-ES" sz="2800" spc="-1" strike="noStrike" u="sng">
                <a:solidFill>
                  <a:srgbClr val="000000"/>
                </a:solidFill>
                <a:uFillTx/>
                <a:latin typeface="Verdana"/>
              </a:rPr>
              <a:t>A nivel xeral</a:t>
            </a: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: titoría, obradoiros de xestión de conflitos, habilidades sociais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gl-ES" sz="2800" spc="-1" strike="noStrike" u="sng">
                <a:solidFill>
                  <a:srgbClr val="000000"/>
                </a:solidFill>
                <a:uFillTx/>
                <a:latin typeface="Verdana"/>
              </a:rPr>
              <a:t>Específico</a:t>
            </a: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Información inici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Empatí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Responsabilidade colectiv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078C-0895-4FE7-AA25-CCE5B995623B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INMERSIÓN LINGÜÍSTIC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Ao principio, o máximo de horas posibles: grupo de linguas, profe de PT, Orientación, Equipo Directivo, profesorado con disposición, profe de PROA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Falar facend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Materias de apoio ao proceso para esas horas e para a aula: láminas, Internet (contidos, traductores, métodos…), libros, xornal, revistas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AE33-B143-4C20-8092-308F9DBB9C63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TODOS/AS SOMOS RESPONSABLES DA INTEGRACIÓN, PERO TAMÉN HAI TAREFAS ESPECÍFIC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Alumado acompaña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400" spc="-1" strike="noStrike">
                <a:solidFill>
                  <a:srgbClr val="000000"/>
                </a:solidFill>
                <a:latin typeface="Verdana"/>
              </a:rPr>
              <a:t>Titorías individua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5B6B-D141-41D6-9F4D-7A878C57B3DD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ATENCIÓN PREGUNT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Que aspecto/s consideramos máis importantes para a comunicación con este  alumnado? E razóns para que o sexa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Se hai máis dun por orde de prioridad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8CB7-E591-450C-BA0F-B919E02568CC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ER RECEPTIVOS E BUSCAR APOI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RVIZO MUNICIPAL DE EDUC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CM: Labañou, Novoboandanza, Os Mal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NG: EQQUS ZEBRA, ECOS DO SUR, VIRAVENTOS, ECODESARROLLO GAIA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AM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GRA VIV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DUCADORES NA RÚ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ÁRIT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UNTUAIS: Valores de Futuro, Junior Achievement, Agarimo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C25E-B9FE-4BBD-B6B9-AECE6BF63EF2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Non facemos ACTIVIDADES EXCLUSIVAS para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Buscamos VISIBILIZAR a nosa realidade en actividades comúns e dar protagonism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Que haxa oferta para as tardes: teatro, parkour, guitarra …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7839-AFB3-4600-BD7A-B18E78DEB147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ALGUNHAS ACTIVIDADES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AÍDAS: todas as posibles e para to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FESTIVAI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MÚSICA NOS RECRE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RADI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EN RU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LUBES: lecturas, ganchillo, ciencia, papiroflexia, música no recreo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699C-A320-44AC-961B-1AB4F6068699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ACTIVIDADES A REALIZ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 RADIO EN RU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 MUNDO NAS NOSAS FOT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 MUNDO NAS NOSAS COUS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TRATOS-PROGRAM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REVISIÓN DE DOCUMENTOS: Plan de Acollida, Plan de Convivencia, NOF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8F4F-E38A-4A80-83BA-A84B871DC8EA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A INCLUSIÓN IMPLICA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PRES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PERTEN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PARTICIP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PROGRE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D7E5-E1E1-47C2-A34C-1F7E092F374C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OBXECTIVO FINAL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Verdana"/>
              </a:rPr>
              <a:t>SENTIRSE PARTE DA COMUNIDADE TANTO A  NIVEL ESCOLAR COMO SOCI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Marcador de número de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ABEC-DED1-418C-9015-34681C9D2EC9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QUE PRETENDEMOS SE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Verdana"/>
              </a:rPr>
              <a:t>UNHA MAREA DE XENT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Marcador de número de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180B-BEC9-4A99-A14C-87209670C6BB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5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4A48-9620-4C85-8CB7-ADB2F296BC25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Verdana"/>
              </a:rPr>
              <a:t>MOITAS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Verdana"/>
              </a:rPr>
              <a:t>GRAZAS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Verdana"/>
              </a:rPr>
              <a:t>EMOITO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Verdana"/>
              </a:rPr>
              <a:t>ÁNIMO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garcia@edu.xunta.g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ies.agra.orzan@edu.xunta.ga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Instagram Biblioteca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https://www.instagram.com/bibliotecaagra/?hl=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Marcador de número de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4686-212A-4DA3-8ED1-57CB9044E17E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999900"/>
                </a:solidFill>
                <a:latin typeface="Garamond"/>
              </a:rPr>
              <a:t>CONTEXTUALIZACIÓN</a:t>
            </a:r>
            <a:endParaRPr b="0" lang="en-US" sz="5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5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3BD6-35AB-437E-9A71-C5B8DB4BB1FE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9900"/>
                </a:solidFill>
                <a:latin typeface="Garamond"/>
              </a:rPr>
              <a:t>SITUACI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Estamos en  pleno barrio da Agra do Orzán: Ronda de Outeiro-Calle Barcelon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Barrio moi densamente poboado: 35.000 habitantes (14 % do total da cidade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Creceu rapidamente nos anos 60 e 70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Foi lugar de asentamento de xentes chegadas do rur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Na zona este, un barrio máis novo: O Ventorrill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Desenvólvese a finais dos 70 e durante os anos 80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F1A6-6349-4983-B71B-8C335F1F8F62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Cerca do famoso poboado de Penamo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Cerca tamén do Estadio de Riaz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Nivel socioeconómico e cultural medio-baix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800" spc="-1" strike="noStrike">
                <a:solidFill>
                  <a:srgbClr val="000000"/>
                </a:solidFill>
                <a:latin typeface="Verdana"/>
              </a:rPr>
              <a:t>Na actualidade con algunhas medidas de mellora: terceira ronda, o centro cultural Ágora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9AA4-D2EA-4F55-A917-BB4ABD01F83D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7:44:28Z</dcterms:created>
  <dc:creator>Emilio García</dc:creator>
  <dc:description/>
  <dc:language>en-US</dc:language>
  <cp:lastModifiedBy>E. García F.</cp:lastModifiedBy>
  <cp:lastPrinted>2024-04-30T15:08:51Z</cp:lastPrinted>
  <dcterms:modified xsi:type="dcterms:W3CDTF">2024-05-02T18:33:35Z</dcterms:modified>
  <cp:revision>48</cp:revision>
  <dc:subject/>
  <dc:title>ALUMNADO INMIGRANTE EN GALICIA</dc:title>
</cp:coreProperties>
</file>